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4A9-F952-48F0-91F0-ACC3FA10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10B-302E-47AA-883D-442CCB00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272D-ACAC-4F83-AD2E-B45463B6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4AD0-B292-465B-A541-DB169472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457-69C5-4EEB-8230-24435D30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5860-FBED-41C1-BDE0-95DB3DF8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1019-049F-4068-A451-8802BC06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1332-B1D5-4B1D-9F00-6AA9B2D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AB81-A677-4D7D-9E4D-57812035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1EFB-A503-4C1D-9D85-25E7035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5930-CA78-495C-8BC1-1F6A6316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03D-7F01-4D6B-A068-45B66CAE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F922-4571-4754-9D9D-9E5DA923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0068-D044-4C4C-8EFB-9F9453CE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6A96-56FE-4755-B67A-C6EB10A1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C860-1EB2-4C68-B700-31AE92AD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297-4CA5-4410-A00C-48BF6DAD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7FE8-979A-453D-A73B-C4687379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D386-24CC-4672-9F1F-61A0FE91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CBBD-F0EE-4E93-8FFA-04D884DA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2C3-F263-4BB3-BBE0-074EFAAD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05A-37C2-4F95-8663-217DADFA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868-BB85-4857-9671-7CF03DF6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42A-2B1A-4C2B-A1A0-7E4B11E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F7EA-C7A7-46DA-B2CD-D64B1BBED13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07B0-BCA3-4596-AAE0-1398E538D9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nit 2 B Socializ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evelopment model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0" y="5791320"/>
            <a:ext cx="90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 New York: Oxford University Pr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09480" indent="-609480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self does not exist at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 development is based on how we think others see us. (Nurture bas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e looking gl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”  - the idea that we see ourselves as having the features we think others see in 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3.  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 – Sel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(subjective self) initiates social ac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e – Sel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objective self – plays the role of the oth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) forms impressions about the I-self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ased on the responses of the other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xamp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If the I-self initiates a social action (asks a guy on a date) If the guy says yes, the me-self is molded positively.  If the guy says no, the me-self is molded negative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refore, children’s social experiences are vital to their development of the Me-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905120" y="2742840"/>
            <a:ext cx="4572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3048120"/>
            <a:ext cx="38088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3.  Social Experience Theory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Cooley and Mead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icisms / problems / 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iticized for down-playing the biological eleme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the self (the nature side of the debate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 Psychosocial Development Theory – Erik Eriks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8 chronological stages of development that describe a person’s entire lif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each stage individuals face a conflict between social demands and personal w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lf emerges as we successfully or unsuccessfully resolve all 8 confli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228600" y="609480"/>
          <a:ext cx="8763120" cy="5867640"/>
        </p:xfrm>
        <a:graphic>
          <a:graphicData uri="http://schemas.openxmlformats.org/drawingml/2006/table">
            <a:tbl>
              <a:tblPr/>
              <a:tblGrid>
                <a:gridCol w="2075040"/>
                <a:gridCol w="820440"/>
                <a:gridCol w="3022560"/>
                <a:gridCol w="2845080"/>
              </a:tblGrid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rience +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xperience 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rust v. Mistrus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 - 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arent care: physical /psychological nee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ck of care uncertain parental lov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nomy v. shame, doub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couragement,  clear discip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iticism, overprotective discipli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itiative v. guil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5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ncouragement of child’s interests, parental prid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riticism of child’s failu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ustry v. inferior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-12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uidance and praise of academic/social developmen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o high/low expectations to success in schoo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entity v. diffus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l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ong role models to promote self-esteem and life go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o role models, social demands cause inner turmo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imacy v. isola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oung    adul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ealthy identity – concern for others – caring relationshi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ocus on the self over others fear of being hurt by bad rel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enerativity. isolation.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ult - hoo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ke good personal decisions, success, enjoy work, concern for growth oth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-centered, lack of concern for othe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grity v. despai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ld 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-confident, having led a complete life - satisfacti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pression, lacking fulfillment, sense of fail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440" y="152280"/>
            <a:ext cx="55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Psychosocial Development Theory – Erik Eriks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4.  Psychosocial Development Theory – Erik Erikson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 / problems / crit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 is too rigid – not everyone proceeds at same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ill highly popular (simple, complete, logic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bility to judge morality depends on stage of brain development (critical of Cooley and Mead, intrigued by Piag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go from believing in black and white rules to questioning and understanding them as shade of gr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2670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3809880"/>
            <a:ext cx="2666880" cy="2514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396252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Young childre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decide on an action solely on whether of not it is in their direct personal interest - rules are rules, not to be broken, never varied, or punish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743200"/>
            <a:ext cx="2666880" cy="2819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324120" y="2133360"/>
            <a:ext cx="266724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33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beyond blind acceptance of society’s nor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Are rules ethically justified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2743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enag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acknowledge the needs of others (less selfish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ight and wrong need 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 consistent with society’s norm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may vary according to circumstan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3505320"/>
            <a:ext cx="268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re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7800" y="2362320"/>
            <a:ext cx="22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5400" y="1752480"/>
            <a:ext cx="274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Postconventional st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71800" y="5562720"/>
            <a:ext cx="1523880" cy="761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4191120"/>
            <a:ext cx="1600200" cy="1371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5.  Moral Development Theory – Lawrence Kohlberg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riticism / problems / conclus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ages are too rigid, not everyone achieves them a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ly boys were used as research subj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 Gender-Based Theory – Carol Gilliga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ritiqued Lawrence Kohlberg – using boys only in his stud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ender based moral perspectives: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Male morality –   “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Justice”  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perspective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( use rules and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bstract principles when defining what is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ight and wrong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emale morality – “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Care and responsibility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” perspective (judge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ctions by how they affect personal 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lationships and loyal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Boys will sacrifice relationships to preserve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irls will bend rules to preserve relationship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 Stage Mode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scientists have attempted to break down the human process of absorbing our experiences to become complete selves, into sta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sychosexual Theory – Freud (1856-193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gnitive Development Theory – Piaget (1896-198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Experience Theory – Cooley (1864-1929) &amp; Mead (1863-193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yschosocial Development Theory – Erikson (1902-199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ral Development Theory – Kohlberg (196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der-based Theory – Gillian  (1992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6.  Gender-Based Theory – Carol Gilligan.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 / problems / conclusion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oesn’t say why the gender differences exist (nature or nurture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d only a narrow range of ag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support her findings - val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1.  Psychosexual Theory – Fre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cious mi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conscious Mind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per eg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ssumption:  All born with the instinctive impulse to seek pleasure and avoid pain –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s instinct my come into conflict with the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ego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– Which tells us to obey the expectations of society and family.  The id and ego battle it out!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sonality is the result of which wins, the id or ego, at various points in our liv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523880" y="2514240"/>
            <a:ext cx="114300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819520"/>
            <a:ext cx="1143000" cy="2286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00600" y="2742840"/>
            <a:ext cx="1447920" cy="30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048120"/>
            <a:ext cx="1523880" cy="30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Id           </a:t>
            </a:r>
            <a:r>
              <a:rPr b="0" i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vs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    Ego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(Extrem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 Selfish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considerat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concerned for oth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 distant and cool in our personal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     relationshi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combination of id and ego results in a personality somewhat more modera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iticism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 Less accepted toda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nborn, unconscious motivations are less accepted than external factors (no biological proof) – more focus on nurture, not na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Freud said males were normal and females inferio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2666880"/>
            <a:ext cx="0" cy="10670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2362320"/>
          <a:ext cx="7696080" cy="4173480"/>
        </p:xfrm>
        <a:graphic>
          <a:graphicData uri="http://schemas.openxmlformats.org/drawingml/2006/table">
            <a:tbl>
              <a:tblPr/>
              <a:tblGrid>
                <a:gridCol w="1219680"/>
                <a:gridCol w="1372320"/>
                <a:gridCol w="2744280"/>
                <a:gridCol w="2359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d’s Pleasure foc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gns in Adulthood that the Id w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 O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rth – 18 m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ral gratification - suck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utting things in mouth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vereating, smoking, nail-bit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 A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 m – 3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owl pleasur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isting toilet traini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anness, obsessive neatness, resentment of authori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 Phalli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-6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wareness of sex organ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edipus /Electra complex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lfishness, poor opposite-sex relationship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 Laten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yrs to pubert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ame-sex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ew opposite-sex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ck of close friend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 Genit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7200" indent="-4572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dolesce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ating and marriag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3366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xual energ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uilt about sexuality, feelings of inadequac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1. Psychosexual Theory – Freud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riticism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Less accepted tod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born, unconscious motivations are less accepted than external factors (no biological proof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oday we have a balanced focus on both nurture and n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eud said males were normal and females inferio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hildren go through chronological developmental stages of 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rderly and predic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lf emerges as each step is mastere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cess of learning… limited by the development of the human b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362320"/>
          <a:ext cx="8153280" cy="3801960"/>
        </p:xfrm>
        <a:graphic>
          <a:graphicData uri="http://schemas.openxmlformats.org/drawingml/2006/table">
            <a:tbl>
              <a:tblPr/>
              <a:tblGrid>
                <a:gridCol w="1676520"/>
                <a:gridCol w="914400"/>
                <a:gridCol w="5562360"/>
              </a:tblGrid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g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haracteristics </a:t>
                      </a:r>
                      <a:r>
                        <a:rPr b="0" i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concluded from experiments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 Sensorimo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irth – 2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arn by touching, egocentric (don’t understand others’ experiences), something exists only when you can see it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 Pre-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-7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nderstands symbols, understands that things can exist when you can’t see them (including concepts - cat, dog), Can’t understand why others can be right and they, wro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 Concrete  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-11 yr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ve logic - understand principles of measurement and size, quantities may be equal although arranged differentl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 Formal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 yrs +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hink abstractly – “on my right-hand side”, recognize other’s experiences and that others may by right or wrong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2.  Cognitive Development Theory  - Piaget continue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riticisms / problems / conclusion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everyone progresses through the stages at same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0% of 30 year olds not at formal operationa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03:04Z</dcterms:created>
  <dc:creator>Administrator</dc:creator>
  <dc:description/>
  <dc:language>en-US</dc:language>
  <cp:lastModifiedBy>Customer</cp:lastModifiedBy>
  <dcterms:modified xsi:type="dcterms:W3CDTF">2010-11-02T14:29:24Z</dcterms:modified>
  <cp:revision>7</cp:revision>
  <dc:subject/>
  <dc:title>Unit 2 B Socialization</dc:title>
</cp:coreProperties>
</file>